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A75-5108-4E57-9502-C35275DC8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one copy of the exam is given to the group (the same one that they just completed individually) and a single answer form is generated.  This forces all students in the group to work closely together.  Questions are read aloud, discussed, and an answer drawn on the basis of consen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1D56-708B-4BE6-8F84-2B90E65E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B55-1798-42B4-9EC1-EA468E0C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75A-7912-42CE-99D0-47D34D7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F1C-66F6-458C-8CD0-DF853EE9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5B4-1424-43F5-8B98-B1AF203D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A52-3E0F-4B61-ADE6-CEDB9AC6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769-62F8-4DDE-AF25-469FADA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AB6-582B-4CCF-9C35-CEA461BE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731-C2C3-4BAB-B071-F58873B6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7FD-8251-438E-923C-8D6C19F6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3D8-476C-47D2-B09C-896D7F0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BD0-9772-46B9-A4E9-DDF46A4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0E9-DCF4-46FB-A37E-FF579F6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616-6929-4768-B818-986497533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Many Minds to Enhance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na Hartney, Cal Poly Pom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C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ndividual Exam 1"/>
          <p:cNvPicPr/>
          <p:nvPr/>
        </p:nvPicPr>
        <p:blipFill>
          <a:blip r:embed="rId1"/>
          <a:stretch/>
        </p:blipFill>
        <p:spPr>
          <a:xfrm>
            <a:off x="457200" y="2743200"/>
            <a:ext cx="3962520" cy="293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Group Exam 5"/>
          <p:cNvPicPr/>
          <p:nvPr/>
        </p:nvPicPr>
        <p:blipFill>
          <a:blip r:embed="rId2"/>
          <a:stretch/>
        </p:blipFill>
        <p:spPr>
          <a:xfrm>
            <a:off x="4572000" y="2743200"/>
            <a:ext cx="40384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57200" y="5867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rning isolated learning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648320" y="5867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o collaborative group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informal study groups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icipation is volu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s form without instructor invol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st of at least 3 and not more than 7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et for at least 1 hr on 2 separate occasions between ex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ete a group roster form each time they me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s determine their own meeting agenda (study guides, practice questions, discussions of difficult concepts, oral quizz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be formed, reconstituted, or dissolved before each ex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 exam pay-off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ber, quiet exam periods turn into energetic and raucous occa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earn bonus points depending on their group’s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mediately seeing test questions a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ime a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to gauge their individual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 from their individual mist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sconceptions to be dispe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st days are less anxiety ridden, more fun, and another opportunity to lea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ccept responsibility for their failures, as well as succes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individual performance enhanced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knows?  I do know th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articipation rates are high (up to 83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n average of 74% (13 sections) of students agree or strongly agree that study groups are an effective and fun way of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Up to 73% of students continue to participate in study groups even when no rewards are provi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esides a little bit of extra book keeping, this is a win-win strateg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17:29Z</dcterms:created>
  <dc:creator>Pat</dc:creator>
  <dc:description/>
  <dc:language>en-US</dc:language>
  <cp:lastModifiedBy>Pat</cp:lastModifiedBy>
  <dcterms:modified xsi:type="dcterms:W3CDTF">2010-03-17T21:52:35Z</dcterms:modified>
  <cp:revision>11</cp:revision>
  <dc:subject/>
  <dc:title>Using Many Minds to Enhance Learning</dc:title>
</cp:coreProperties>
</file>